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36.png" ContentType="image/png"/>
  <Override PartName="/ppt/media/image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16.png" ContentType="image/pn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29B-6BB9-44D5-AFEC-EB61895C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EAEB-3B6C-4C08-86D1-8EF18A3D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8F1-FE0C-488F-A580-D493B0BB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236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668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3804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236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668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F4D-E1F2-4660-9BA2-8E979F4B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3F73-354D-4570-A1B8-BE50B44F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CF13-D965-473A-990A-F1A18EBB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C1F7-4D91-4FEB-B4FE-B25F6B86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6195-3EF4-44AC-8C70-5414B713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25AB-9491-46B5-8E67-E497838D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43280" y="4371480"/>
            <a:ext cx="705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F56A-B959-4A54-BE07-9DD1F2A1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7F36-D113-43E2-957E-493AA460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294-14C5-4789-8A0D-3D6F01B6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2864-9B68-45F4-8706-41BFC220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06B0-BB83-41FE-BEB9-08AA44A7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D08D-6E9B-4C0D-9DF3-CD31B173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8509-50B0-4E52-BF58-DAAF0FC1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236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2668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3804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236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2668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B1D3-6DDE-433C-A70C-75594731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07321-1F7B-456E-B042-8844C216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D7D83-1736-47D2-9702-D69217DC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DCE3E-5AA5-4D69-A9A4-5ADF3CFB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ED38A-7759-40B5-A525-C883E98F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361EB-3B95-46FC-8121-BF5184C0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4E0-8F5E-480D-9F5F-D4213861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3280" y="4371480"/>
            <a:ext cx="705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F2347-0C6C-483E-ABCB-91351D9C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0242B-74FE-4A7D-B3E3-88921D11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25EEB-2491-41F6-A850-9FAB7887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A0391-B07C-4293-B822-AF5EB891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79E32-4879-4DB9-8500-451204F0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2CAE1-EB92-4FF5-84CA-5FA2E474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8236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2668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3804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8236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2668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DE0C5-6A75-4F8E-BF4B-C4C73FE6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07A3E-BBD4-48A8-BB8B-E873F5D6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90CC8-BE08-4FAE-BE6C-D9E9379D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C2D60-7B79-419C-8B0D-EA3B41A2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5FB-8B11-4E27-AEA0-FB844486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5C91D-B73C-419F-9EEA-2AC7F761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08B80-6D6F-4211-9DAB-4C14DFBF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943280" y="4371480"/>
            <a:ext cx="705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6FF9D-B8F1-442D-A5FC-380AA6A6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86561-BD8D-4DA1-8DC0-8F971FAD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22A5B-4E03-4B87-8939-C523FB28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E222E-88CE-45B2-93C3-3495C100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57DFC-529C-4310-A4FB-600705AD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55314-FE26-41C3-B4EA-6B228D8B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8236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2668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23804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8236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2668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DE2D7-BEE3-4362-A31A-B5B4F1A3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F43482-576B-47E1-9F07-2B4FCC5C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B82-0C48-44D2-AD39-A3DCA4EC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FC1AB7-5A52-43D5-BE75-0420BC65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3C3B0F-A714-4261-9B8B-E136DD6A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794C7C-C63F-4786-89DE-8F0B48AA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790F55-D19E-4A0C-8C23-60000196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3280" y="4371480"/>
            <a:ext cx="705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67F467-8A7E-4D8F-805E-669B20C2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064F18-1C00-48DB-BC3F-0E47CB7C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10B676-2376-445C-A931-09D4CD6F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A34C2D-227B-41E5-B76D-657FB207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2BF562-2DD9-4301-A54B-5E7C9C4D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1C8601-17BC-46AC-809C-B6A124C7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43280" y="4371480"/>
            <a:ext cx="705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743-B6A2-44EC-9883-90BC8856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8236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2668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23804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8236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2668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DC17D9-1392-44C3-80B4-3D546EDA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29A80-1539-46ED-8620-9D198E41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F1513-D87B-4D9D-8AAC-D62FAD15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06DE4-ED82-4156-9683-43DEA0D7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C198E-8F4E-4BC6-889C-9689D01B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EB530-7EA4-4FEF-84F9-5FADCF53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43280" y="4371480"/>
            <a:ext cx="705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231FA-DE17-402D-A8CD-E4853E54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C2877-7CCF-47B7-B78D-730D3BCA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669D3-7BBA-4DC4-8D91-557888E2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E159D-6C63-4424-A1EA-0B3F3495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EBB-303C-4E32-99FE-81D4051D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48455-80EF-4F6F-A295-37510F62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88B8C-3322-44E5-B85C-ECF32D91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8236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92668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23804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58236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92668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EF70A-1B78-41C0-8C2A-5EC6620A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38C60-1D80-4F70-803F-264B92CC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1B183-4463-4651-A313-EE4DD858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0CF71-2A45-489C-A524-0D2681AE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1B97C-B7E2-4E9F-B459-AD9B1D3D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003FE-055A-4D68-AAAD-53E7304B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943280" y="4371480"/>
            <a:ext cx="705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0EF10-FB7F-40D6-911F-FCCDDC1C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9D771-EBD8-4FA7-BA03-8291CF7A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367-62C4-4984-8A03-2B47CF29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7EC84-EBCA-4285-84AF-17C686DD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6E55B-F0B8-42EA-A619-4E4DD762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10711-0740-4ECF-AC14-DDDBFC8A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8BAC2-7E3D-49E7-91A4-23A4FCB2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58236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2668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23804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58236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2668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1B843-977F-4AF2-9C3B-65DA9A1C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CCCDA-CCDB-434C-88E4-E48B4065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EE3FA-91EC-4F5D-BC62-BEDBCDBB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63D4C-7DDF-49CE-B9C4-2742EF62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0CD9E-B620-41C5-8DEA-1038461B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83C32-BF2B-46D2-8B3E-24563B98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1C0-34B7-47B2-8652-4F2728B4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943280" y="4371480"/>
            <a:ext cx="705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5DA67-7D99-4439-B056-DC423165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0A4A1-F358-4E5B-9FB0-F61761FC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96EEE-A182-458A-A0B3-44797344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63BE0-C514-4248-A2D7-08EB8B61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E1CE1-1282-4E2D-B654-FC85257F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D998F-C033-467C-83FD-ED1D572D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8236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2668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23804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8236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2668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BAE71-843D-48CB-AB12-650C51D5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73360" y="6203520"/>
            <a:ext cx="2806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11200" y="6203520"/>
            <a:ext cx="3879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110160" y="6181560"/>
            <a:ext cx="66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A0F4-F913-4F35-8F4B-528A63FDA41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0" y="5108400"/>
            <a:ext cx="9906120" cy="1749600"/>
            <a:chOff x="0" y="5108400"/>
            <a:chExt cx="9906120" cy="174960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90612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108400"/>
              <a:ext cx="990612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" name="Rectangle 7"/>
          <p:cNvGrpSpPr/>
          <p:nvPr/>
        </p:nvGrpSpPr>
        <p:grpSpPr>
          <a:xfrm>
            <a:off x="0" y="0"/>
            <a:ext cx="9906120" cy="5108400"/>
            <a:chOff x="0" y="0"/>
            <a:chExt cx="9906120" cy="5108400"/>
          </a:xfrm>
        </p:grpSpPr>
        <p:pic>
          <p:nvPicPr>
            <p:cNvPr id="4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90612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90612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0" y="3768840"/>
            <a:ext cx="9906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Oval 9"/>
          <p:cNvGrpSpPr/>
          <p:nvPr/>
        </p:nvGrpSpPr>
        <p:grpSpPr>
          <a:xfrm>
            <a:off x="0" y="1603440"/>
            <a:ext cx="9906120" cy="5102280"/>
            <a:chOff x="0" y="1603440"/>
            <a:chExt cx="9906120" cy="5102280"/>
          </a:xfrm>
        </p:grpSpPr>
        <p:pic>
          <p:nvPicPr>
            <p:cNvPr id="4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9061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450800" y="2347920"/>
              <a:ext cx="700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686280" y="6172200"/>
            <a:ext cx="272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95000" y="617220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FBFD-FEE1-4990-A5DB-F7DAF1ED64D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6"/>
          <p:cNvSpPr/>
          <p:nvPr/>
        </p:nvSpPr>
        <p:spPr>
          <a:xfrm>
            <a:off x="1585800" y="3549600"/>
            <a:ext cx="321948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Прямая соединительная линия 7"/>
          <p:cNvSpPr/>
          <p:nvPr/>
        </p:nvSpPr>
        <p:spPr>
          <a:xfrm>
            <a:off x="5100480" y="3549600"/>
            <a:ext cx="321948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Овал 8"/>
          <p:cNvSpPr/>
          <p:nvPr/>
        </p:nvSpPr>
        <p:spPr>
          <a:xfrm>
            <a:off x="4917960" y="3525840"/>
            <a:ext cx="5076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273360" y="6203520"/>
            <a:ext cx="2806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9110160" y="6181560"/>
            <a:ext cx="66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1324-59A1-4B78-8EDF-622A73CBD6D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9"/>
          </p:nvPr>
        </p:nvSpPr>
        <p:spPr>
          <a:xfrm>
            <a:off x="2311200" y="6203520"/>
            <a:ext cx="3879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ая соединительная линия 6"/>
          <p:cNvSpPr/>
          <p:nvPr/>
        </p:nvSpPr>
        <p:spPr>
          <a:xfrm>
            <a:off x="743040" y="4916520"/>
            <a:ext cx="85852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273360" y="6203520"/>
            <a:ext cx="2806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311200" y="6203520"/>
            <a:ext cx="3879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9110160" y="6181560"/>
            <a:ext cx="66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EE3F-AE37-4153-907F-71BE421D82C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ая соединительная линия 6"/>
          <p:cNvSpPr/>
          <p:nvPr/>
        </p:nvSpPr>
        <p:spPr>
          <a:xfrm>
            <a:off x="609480" y="2179800"/>
            <a:ext cx="406260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5151600" y="2179800"/>
            <a:ext cx="406080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3"/>
          </p:nvPr>
        </p:nvSpPr>
        <p:spPr>
          <a:xfrm>
            <a:off x="9110160" y="6181560"/>
            <a:ext cx="66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3D35-B2CC-417C-8634-EE8A0181957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2311200" y="6203520"/>
            <a:ext cx="3879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dt" idx="15"/>
          </p:nvPr>
        </p:nvSpPr>
        <p:spPr>
          <a:xfrm>
            <a:off x="6273360" y="6203520"/>
            <a:ext cx="2806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Rectangle 10"/>
          <p:cNvGrpSpPr/>
          <p:nvPr/>
        </p:nvGrpSpPr>
        <p:grpSpPr>
          <a:xfrm>
            <a:off x="0" y="3865680"/>
            <a:ext cx="9906120" cy="2992320"/>
            <a:chOff x="0" y="3865680"/>
            <a:chExt cx="9906120" cy="2992320"/>
          </a:xfrm>
        </p:grpSpPr>
        <p:pic>
          <p:nvPicPr>
            <p:cNvPr id="22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90612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0" y="3867120"/>
              <a:ext cx="990612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Rectangle 11"/>
          <p:cNvGrpSpPr/>
          <p:nvPr/>
        </p:nvGrpSpPr>
        <p:grpSpPr>
          <a:xfrm>
            <a:off x="0" y="0"/>
            <a:ext cx="9906120" cy="3865680"/>
            <a:chOff x="0" y="0"/>
            <a:chExt cx="9906120" cy="3865680"/>
          </a:xfrm>
        </p:grpSpPr>
        <p:pic>
          <p:nvPicPr>
            <p:cNvPr id="22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90612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0" y="0"/>
              <a:ext cx="990612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Rectangle 12"/>
          <p:cNvSpPr/>
          <p:nvPr/>
        </p:nvSpPr>
        <p:spPr>
          <a:xfrm>
            <a:off x="0" y="2652840"/>
            <a:ext cx="9906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Oval 13"/>
          <p:cNvGrpSpPr/>
          <p:nvPr/>
        </p:nvGrpSpPr>
        <p:grpSpPr>
          <a:xfrm>
            <a:off x="0" y="1603440"/>
            <a:ext cx="9906120" cy="5102280"/>
            <a:chOff x="0" y="1603440"/>
            <a:chExt cx="9906120" cy="5102280"/>
          </a:xfrm>
        </p:grpSpPr>
        <p:pic>
          <p:nvPicPr>
            <p:cNvPr id="22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9061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450800" y="2347920"/>
              <a:ext cx="700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6686280" y="6172200"/>
            <a:ext cx="272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95000" y="617220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4AC5-9515-4A27-8EF4-F0FD70EEFB0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6"/>
          <p:cNvGrpSpPr/>
          <p:nvPr/>
        </p:nvGrpSpPr>
        <p:grpSpPr>
          <a:xfrm>
            <a:off x="0" y="5108400"/>
            <a:ext cx="9906120" cy="1749600"/>
            <a:chOff x="0" y="5108400"/>
            <a:chExt cx="9906120" cy="1749600"/>
          </a:xfrm>
        </p:grpSpPr>
        <p:pic>
          <p:nvPicPr>
            <p:cNvPr id="27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90612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0" y="5108400"/>
              <a:ext cx="990612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Rectangle 7"/>
          <p:cNvGrpSpPr/>
          <p:nvPr/>
        </p:nvGrpSpPr>
        <p:grpSpPr>
          <a:xfrm>
            <a:off x="0" y="0"/>
            <a:ext cx="9906120" cy="5108400"/>
            <a:chOff x="0" y="0"/>
            <a:chExt cx="9906120" cy="5108400"/>
          </a:xfrm>
        </p:grpSpPr>
        <p:pic>
          <p:nvPicPr>
            <p:cNvPr id="27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90612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0" y="0"/>
              <a:ext cx="990612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8" name="Rectangle 8"/>
          <p:cNvSpPr/>
          <p:nvPr/>
        </p:nvSpPr>
        <p:spPr>
          <a:xfrm>
            <a:off x="0" y="3768840"/>
            <a:ext cx="9906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Oval 9"/>
          <p:cNvGrpSpPr/>
          <p:nvPr/>
        </p:nvGrpSpPr>
        <p:grpSpPr>
          <a:xfrm>
            <a:off x="0" y="1603440"/>
            <a:ext cx="9906120" cy="5102280"/>
            <a:chOff x="0" y="1603440"/>
            <a:chExt cx="9906120" cy="5102280"/>
          </a:xfrm>
        </p:grpSpPr>
        <p:pic>
          <p:nvPicPr>
            <p:cNvPr id="28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9061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1450800" y="2347920"/>
              <a:ext cx="700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Rectangle 6"/>
          <p:cNvGrpSpPr/>
          <p:nvPr/>
        </p:nvGrpSpPr>
        <p:grpSpPr>
          <a:xfrm>
            <a:off x="0" y="3865680"/>
            <a:ext cx="9906120" cy="2992320"/>
            <a:chOff x="0" y="3865680"/>
            <a:chExt cx="9906120" cy="2992320"/>
          </a:xfrm>
        </p:grpSpPr>
        <p:pic>
          <p:nvPicPr>
            <p:cNvPr id="28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90612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0" y="3867120"/>
              <a:ext cx="990612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Rectangle 7"/>
          <p:cNvGrpSpPr/>
          <p:nvPr/>
        </p:nvGrpSpPr>
        <p:grpSpPr>
          <a:xfrm>
            <a:off x="0" y="0"/>
            <a:ext cx="9906120" cy="3865680"/>
            <a:chOff x="0" y="0"/>
            <a:chExt cx="9906120" cy="3865680"/>
          </a:xfrm>
        </p:grpSpPr>
        <p:pic>
          <p:nvPicPr>
            <p:cNvPr id="28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90612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0" y="0"/>
              <a:ext cx="990612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Rectangle 8"/>
          <p:cNvSpPr/>
          <p:nvPr/>
        </p:nvSpPr>
        <p:spPr>
          <a:xfrm>
            <a:off x="0" y="2652840"/>
            <a:ext cx="9906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Oval 9"/>
          <p:cNvGrpSpPr/>
          <p:nvPr/>
        </p:nvGrpSpPr>
        <p:grpSpPr>
          <a:xfrm>
            <a:off x="0" y="1603440"/>
            <a:ext cx="9906120" cy="5102280"/>
            <a:chOff x="0" y="1603440"/>
            <a:chExt cx="9906120" cy="5102280"/>
          </a:xfrm>
        </p:grpSpPr>
        <p:pic>
          <p:nvPicPr>
            <p:cNvPr id="29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9061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450800" y="2347920"/>
              <a:ext cx="700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6686280" y="6172200"/>
            <a:ext cx="272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495000" y="617220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1C28-C1A3-48ED-BA13-C5C16A41B54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Rectangle 7"/>
          <p:cNvGrpSpPr/>
          <p:nvPr/>
        </p:nvGrpSpPr>
        <p:grpSpPr>
          <a:xfrm>
            <a:off x="0" y="3865680"/>
            <a:ext cx="9906120" cy="2992320"/>
            <a:chOff x="0" y="3865680"/>
            <a:chExt cx="9906120" cy="2992320"/>
          </a:xfrm>
        </p:grpSpPr>
        <p:pic>
          <p:nvPicPr>
            <p:cNvPr id="33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90612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0" y="3867120"/>
              <a:ext cx="990612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" name="Rectangle 8"/>
          <p:cNvGrpSpPr/>
          <p:nvPr/>
        </p:nvGrpSpPr>
        <p:grpSpPr>
          <a:xfrm>
            <a:off x="0" y="0"/>
            <a:ext cx="9906120" cy="3865680"/>
            <a:chOff x="0" y="0"/>
            <a:chExt cx="9906120" cy="3865680"/>
          </a:xfrm>
        </p:grpSpPr>
        <p:pic>
          <p:nvPicPr>
            <p:cNvPr id="33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90612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0" y="0"/>
              <a:ext cx="990612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Rectangle 9"/>
          <p:cNvSpPr/>
          <p:nvPr/>
        </p:nvSpPr>
        <p:spPr>
          <a:xfrm>
            <a:off x="0" y="2652840"/>
            <a:ext cx="9906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Oval 10"/>
          <p:cNvGrpSpPr/>
          <p:nvPr/>
        </p:nvGrpSpPr>
        <p:grpSpPr>
          <a:xfrm>
            <a:off x="0" y="1603440"/>
            <a:ext cx="9906120" cy="5102280"/>
            <a:chOff x="0" y="1603440"/>
            <a:chExt cx="9906120" cy="5102280"/>
          </a:xfrm>
        </p:grpSpPr>
        <p:pic>
          <p:nvPicPr>
            <p:cNvPr id="34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9061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450800" y="2347920"/>
              <a:ext cx="700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6686280" y="6172200"/>
            <a:ext cx="272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495000" y="617220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31F8-D3A8-4D08-A3C8-46966995632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image" Target="../media/image33.jpeg"/><Relationship Id="rId7" Type="http://schemas.openxmlformats.org/officeDocument/2006/relationships/image" Target="../media/image33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.ua/url?sa=t&amp;rct=j&amp;q=&amp;esrc=s&amp;frm=1&amp;source=images&amp;cd=&amp;cad=rja&amp;uact=8&amp;ved=0CAQQjRw&amp;url=http://www.heraldik.ru/gerbs/klenovskoe.htm&amp;ei=zwkjU8CGCaa34wTc6YDwBg&amp;usg=AFQjCNFnNQ-z1ycIfgCBRgw9HIyjxvk1Yg&amp;bvm=bv.62922401,d.bGE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0fd"/>
            </a:gs>
            <a:gs pos="100000">
              <a:srgbClr val="c9d1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2044800" y="4292640"/>
            <a:ext cx="6480000" cy="2324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7"/>
          <p:cNvSpPr/>
          <p:nvPr/>
        </p:nvSpPr>
        <p:spPr>
          <a:xfrm>
            <a:off x="2044800" y="777960"/>
            <a:ext cx="648000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6142"/>
                </a:solidFill>
                <a:latin typeface="Bookman Old Style"/>
              </a:rPr>
              <a:t>Проект бюджета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Кленовского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сельского поселени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6733"/>
                </a:solidFill>
                <a:latin typeface="Bookman Old Style"/>
              </a:rPr>
              <a:t>на 2018 год и плановый перио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6733"/>
                </a:solidFill>
                <a:latin typeface="Bookman Old Style"/>
              </a:rPr>
              <a:t>2019 и 2020 г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6" name="Picture 2" descr="https://encrypted-tbn0.gstatic.com/images?q=tbn:ANd9GcQqcCh84ssaxXSZ9mJeQTcCirZxRWpmawh5E1324uVvOhZw5AxGR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3760"/>
            <a:ext cx="19256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371520" y="55440"/>
            <a:ext cx="9199440" cy="9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630360" y="1330200"/>
          <a:ext cx="9096120" cy="5388120"/>
        </p:xfrm>
        <a:graphic>
          <a:graphicData uri="http://schemas.openxmlformats.org/drawingml/2006/table">
            <a:tbl>
              <a:tblPr/>
              <a:tblGrid>
                <a:gridCol w="5224320"/>
                <a:gridCol w="1260360"/>
                <a:gridCol w="1262160"/>
                <a:gridCol w="1349280"/>
              </a:tblGrid>
              <a:tr h="24444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ffccf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Проект бюджет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2020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18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Доходы -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8211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5570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4771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- налоговые до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6843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688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694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- неналоговые до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- безвозмездные поступ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75264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4880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4076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Расходы - всего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8211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5570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4771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- непрограммные рас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34248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3446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4534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- программные рас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4786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19859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- условно-утвержденные рас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</a:rPr>
                        <a:t>138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3c65"/>
                          </a:solidFill>
                          <a:latin typeface="Times New Roman"/>
                        </a:rPr>
                        <a:t>237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Дефицит (-), профицит(+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не предусмотре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не предусмотре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н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предусмотре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107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Размер резервного фон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Размер Дорожного фон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3788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1336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  <a:ea typeface="Times New Roman"/>
                        </a:rPr>
                        <a:t>496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73c65"/>
                          </a:solidFill>
                          <a:latin typeface="Times New Roman"/>
                        </a:rPr>
                        <a:t>Предельный объем муниципального долг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73c65"/>
                          </a:solidFill>
                          <a:latin typeface="Times New Roman"/>
                        </a:rPr>
                        <a:t>Объем расходов на обслуживание муниципального внутреннего долг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73c65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Номер слайда 5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F2A9-5BCB-464F-B946-38757CC59326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Rectangle 2081"/>
          <p:cNvSpPr/>
          <p:nvPr/>
        </p:nvSpPr>
        <p:spPr>
          <a:xfrm>
            <a:off x="8542440" y="69228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c65"/>
                </a:solidFill>
                <a:latin typeface="Times New Roman"/>
              </a:rPr>
              <a:t>тыс.руб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Line 2090"/>
          <p:cNvSpPr/>
          <p:nvPr/>
        </p:nvSpPr>
        <p:spPr>
          <a:xfrm>
            <a:off x="522360" y="907920"/>
            <a:ext cx="9204120" cy="0"/>
          </a:xfrm>
          <a:prstGeom prst="line">
            <a:avLst/>
          </a:prstGeom>
          <a:ln w="4752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5" name="Picture 2" descr="https://encrypted-tbn0.gstatic.com/images?q=tbn:ANd9GcQqcCh84ssaxXSZ9mJeQTcCirZxRWpmawh5E1324uVvOhZw5AxGR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6160" y="-57240"/>
            <a:ext cx="10159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CEAE-6A5C-4F22-9531-B14E27A2BF8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Прямоугольник 2"/>
          <p:cNvSpPr/>
          <p:nvPr/>
        </p:nvSpPr>
        <p:spPr>
          <a:xfrm>
            <a:off x="530280" y="890640"/>
            <a:ext cx="923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  <a:ea typeface="Arial"/>
              </a:rPr>
              <a:t>ДОХОДНАЯ ЧАСТЬ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  <a:ea typeface="Arial"/>
              </a:rPr>
              <a:t>БЮДЖЕТА КЛЕНОВСКОГО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  <a:ea typeface="Arial"/>
              </a:rPr>
              <a:t>СЕЛЬСКОГО ПОСЕЛЕНИ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C86F-2DB6-4BFC-8603-E2F5CCDD815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9" name="Picture 2" descr="https://encrypted-tbn0.gstatic.com/images?q=tbn:ANd9GcQqcCh84ssaxXSZ9mJeQTcCirZxRWpmawh5E1324uVvOhZw5AxG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15920" cy="1389240"/>
          </a:xfrm>
          <a:prstGeom prst="rect">
            <a:avLst/>
          </a:prstGeom>
          <a:ln w="0">
            <a:noFill/>
          </a:ln>
        </p:spPr>
      </p:pic>
      <p:sp>
        <p:nvSpPr>
          <p:cNvPr id="480" name="Прямоугольник 3"/>
          <p:cNvSpPr/>
          <p:nvPr/>
        </p:nvSpPr>
        <p:spPr>
          <a:xfrm>
            <a:off x="1352520" y="227160"/>
            <a:ext cx="79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оходы бюдж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поступающие в бюджет денежные средства, за исключением средств, являющихся источниками финансирования дефици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Скругленный прямоугольник 4"/>
          <p:cNvSpPr/>
          <p:nvPr/>
        </p:nvSpPr>
        <p:spPr>
          <a:xfrm>
            <a:off x="2975040" y="1569960"/>
            <a:ext cx="5079960" cy="58428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3425760" y="1706400"/>
            <a:ext cx="39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_s8200"/>
          <p:cNvSpPr/>
          <p:nvPr/>
        </p:nvSpPr>
        <p:spPr>
          <a:xfrm>
            <a:off x="871560" y="2557440"/>
            <a:ext cx="2414520" cy="6699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Налоговые доходы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_s8200"/>
          <p:cNvSpPr/>
          <p:nvPr/>
        </p:nvSpPr>
        <p:spPr>
          <a:xfrm>
            <a:off x="3971880" y="2462040"/>
            <a:ext cx="2414520" cy="669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Неналоговые доходы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_s8200"/>
          <p:cNvSpPr/>
          <p:nvPr/>
        </p:nvSpPr>
        <p:spPr>
          <a:xfrm>
            <a:off x="7101000" y="2568600"/>
            <a:ext cx="2414520" cy="6699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Безвозмездные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поступления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19"/>
          <p:cNvSpPr/>
          <p:nvPr/>
        </p:nvSpPr>
        <p:spPr>
          <a:xfrm>
            <a:off x="936720" y="3809880"/>
            <a:ext cx="2305080" cy="2857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ступления от уплаты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логов, установленных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логовым Кодексом РФ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налог на доходы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их лиц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кцизы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налоги на совокупны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ход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налоги на имущество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оспошлин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Rectangle 20"/>
          <p:cNvSpPr/>
          <p:nvPr/>
        </p:nvSpPr>
        <p:spPr>
          <a:xfrm>
            <a:off x="3794040" y="3772080"/>
            <a:ext cx="2689200" cy="2857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латежи, установленны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конодательством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Федерации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арендная плата за землю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доходы от использова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 имуще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доходы от реализаци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 имуще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доходы от продаж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емельных участко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штрафы за нарушение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конода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прочие неналоговые доход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Rectangle 21"/>
          <p:cNvSpPr/>
          <p:nvPr/>
        </p:nvSpPr>
        <p:spPr>
          <a:xfrm>
            <a:off x="7101000" y="3809880"/>
            <a:ext cx="2414520" cy="28576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ступления от други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ов (межбюджетные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рансферты),организаций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раждан (кроме налоговы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неналоговых доходов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AutoShape 22"/>
          <p:cNvSpPr/>
          <p:nvPr/>
        </p:nvSpPr>
        <p:spPr>
          <a:xfrm>
            <a:off x="1727280" y="3317760"/>
            <a:ext cx="50472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85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AutoShape 22"/>
          <p:cNvSpPr/>
          <p:nvPr/>
        </p:nvSpPr>
        <p:spPr>
          <a:xfrm>
            <a:off x="4832280" y="3205080"/>
            <a:ext cx="50472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85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AutoShape 22"/>
          <p:cNvSpPr/>
          <p:nvPr/>
        </p:nvSpPr>
        <p:spPr>
          <a:xfrm>
            <a:off x="8055000" y="3260880"/>
            <a:ext cx="50472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85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Прямая соединительная линия 17"/>
          <p:cNvSpPr/>
          <p:nvPr/>
        </p:nvSpPr>
        <p:spPr>
          <a:xfrm>
            <a:off x="2077920" y="2306520"/>
            <a:ext cx="6083280" cy="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Прямая соединительная линия 19"/>
          <p:cNvSpPr/>
          <p:nvPr/>
        </p:nvSpPr>
        <p:spPr>
          <a:xfrm flipH="1">
            <a:off x="5192280" y="2154240"/>
            <a:ext cx="322200" cy="15228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Прямая соединительная линия 21"/>
          <p:cNvSpPr/>
          <p:nvPr/>
        </p:nvSpPr>
        <p:spPr>
          <a:xfrm flipH="1">
            <a:off x="2077560" y="2306520"/>
            <a:ext cx="11160" cy="25092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Прямая соединительная линия 23"/>
          <p:cNvSpPr/>
          <p:nvPr/>
        </p:nvSpPr>
        <p:spPr>
          <a:xfrm flipH="1">
            <a:off x="5178240" y="2306520"/>
            <a:ext cx="14040" cy="15552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Прямая соединительная линия 25"/>
          <p:cNvSpPr/>
          <p:nvPr/>
        </p:nvSpPr>
        <p:spPr>
          <a:xfrm>
            <a:off x="8161200" y="2306520"/>
            <a:ext cx="0" cy="25092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6B8D-F345-4A7B-A7DB-8CC8DC72EC9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8" name="Picture 2" descr="https://encrypted-tbn0.gstatic.com/images?q=tbn:ANd9GcQqcCh84ssaxXSZ9mJeQTcCirZxRWpmawh5E1324uVvOhZw5AxG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15920" cy="1389240"/>
          </a:xfrm>
          <a:prstGeom prst="rect">
            <a:avLst/>
          </a:prstGeom>
          <a:ln w="0">
            <a:noFill/>
          </a:ln>
        </p:spPr>
      </p:pic>
      <p:sp>
        <p:nvSpPr>
          <p:cNvPr id="499" name="Прямоугольник 3"/>
          <p:cNvSpPr/>
          <p:nvPr/>
        </p:nvSpPr>
        <p:spPr>
          <a:xfrm>
            <a:off x="1460520" y="163440"/>
            <a:ext cx="824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веден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ежбюджетных отношения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Прямоугольник 5"/>
          <p:cNvSpPr/>
          <p:nvPr/>
        </p:nvSpPr>
        <p:spPr>
          <a:xfrm>
            <a:off x="190440" y="1619280"/>
            <a:ext cx="951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ежбюджетные отношен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это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Скругленный прямоугольник 7"/>
          <p:cNvSpPr/>
          <p:nvPr/>
        </p:nvSpPr>
        <p:spPr>
          <a:xfrm>
            <a:off x="2457360" y="2543040"/>
            <a:ext cx="4899240" cy="2248200"/>
          </a:xfrm>
          <a:prstGeom prst="roundRect">
            <a:avLst>
              <a:gd name="adj" fmla="val 16667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Межбюджетные трансферты –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это средства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предоставляемые одним бюджет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бюджетной системы Российской Федер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другому бюджету бюджетной системы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Российской Федер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Блок-схема: перфолента 8"/>
          <p:cNvSpPr/>
          <p:nvPr/>
        </p:nvSpPr>
        <p:spPr>
          <a:xfrm>
            <a:off x="190440" y="2995560"/>
            <a:ext cx="1992240" cy="2067120"/>
          </a:xfrm>
          <a:prstGeom prst="flowChartPunchedTap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отац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. "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ati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– дар, пожертв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без определения конкретной цели их использ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Блок-схема: перфолента 9"/>
          <p:cNvSpPr/>
          <p:nvPr/>
        </p:nvSpPr>
        <p:spPr>
          <a:xfrm>
            <a:off x="873000" y="5172120"/>
            <a:ext cx="3767400" cy="1555560"/>
          </a:xfrm>
          <a:prstGeom prst="flowChartPunchedTap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убвенц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лат. "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venir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ходить на помощь) – предоставляются на финансирование "переданных" другим публично-правовым образованиям полномоч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Блок-схема: перфолента 10"/>
          <p:cNvSpPr/>
          <p:nvPr/>
        </p:nvSpPr>
        <p:spPr>
          <a:xfrm>
            <a:off x="5213520" y="5062680"/>
            <a:ext cx="3944880" cy="1665000"/>
          </a:xfrm>
          <a:prstGeom prst="flowChartPunchedTap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убсид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от лат. "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bsidium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" – поддержка) – предоставляются на условиях долевого софинансирования расходов других бюдже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Блок-схема: перфолента 11"/>
          <p:cNvSpPr/>
          <p:nvPr/>
        </p:nvSpPr>
        <p:spPr>
          <a:xfrm>
            <a:off x="7547040" y="2811600"/>
            <a:ext cx="2047680" cy="2101680"/>
          </a:xfrm>
          <a:prstGeom prst="flowChartPunchedTap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ные межбюджетные трансфер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оставляются на определённые цел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F3D3-80DA-4BF9-9979-E94CA957F00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7" name="Picture 2" descr="https://encrypted-tbn0.gstatic.com/images?q=tbn:ANd9GcQqcCh84ssaxXSZ9mJeQTcCirZxRWpmawh5E1324uVvOhZw5AxG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3760"/>
            <a:ext cx="1015920" cy="1388880"/>
          </a:xfrm>
          <a:prstGeom prst="rect">
            <a:avLst/>
          </a:prstGeom>
          <a:ln w="0">
            <a:noFill/>
          </a:ln>
        </p:spPr>
      </p:pic>
      <p:pic>
        <p:nvPicPr>
          <p:cNvPr id="508" name="Rectangle 2" descr=""/>
          <p:cNvPicPr/>
          <p:nvPr/>
        </p:nvPicPr>
        <p:blipFill>
          <a:blip r:embed="rId3"/>
          <a:stretch/>
        </p:blipFill>
        <p:spPr>
          <a:xfrm>
            <a:off x="1260360" y="117360"/>
            <a:ext cx="7688520" cy="1208160"/>
          </a:xfrm>
          <a:prstGeom prst="rect">
            <a:avLst/>
          </a:prstGeom>
          <a:ln w="0">
            <a:noFill/>
          </a:ln>
        </p:spPr>
      </p:pic>
      <p:pic>
        <p:nvPicPr>
          <p:cNvPr id="509" name="Диаграмма 4" descr=""/>
          <p:cNvPicPr/>
          <p:nvPr/>
        </p:nvPicPr>
        <p:blipFill>
          <a:blip r:embed="rId4"/>
          <a:stretch/>
        </p:blipFill>
        <p:spPr>
          <a:xfrm>
            <a:off x="169920" y="1654200"/>
            <a:ext cx="97869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9036-B869-4F0F-87FF-EC1BCF70F8A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1" name="Picture 2" descr="https://encrypted-tbn0.gstatic.com/images?q=tbn:ANd9GcQqcCh84ssaxXSZ9mJeQTcCirZxRWpmawh5E1324uVvOhZw5AxG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3760"/>
            <a:ext cx="1015920" cy="1388880"/>
          </a:xfrm>
          <a:prstGeom prst="rect">
            <a:avLst/>
          </a:prstGeom>
          <a:ln w="0">
            <a:noFill/>
          </a:ln>
        </p:spPr>
      </p:pic>
      <p:pic>
        <p:nvPicPr>
          <p:cNvPr id="512" name="Rectangle 71" descr=""/>
          <p:cNvPicPr/>
          <p:nvPr/>
        </p:nvPicPr>
        <p:blipFill>
          <a:blip r:embed="rId3"/>
          <a:stretch/>
        </p:blipFill>
        <p:spPr>
          <a:xfrm>
            <a:off x="1487520" y="260280"/>
            <a:ext cx="8093160" cy="987480"/>
          </a:xfrm>
          <a:prstGeom prst="rect">
            <a:avLst/>
          </a:prstGeom>
          <a:ln w="0">
            <a:noFill/>
          </a:ln>
        </p:spPr>
      </p:pic>
      <p:pic>
        <p:nvPicPr>
          <p:cNvPr id="513" name="Диаграмма 4" descr=""/>
          <p:cNvPicPr/>
          <p:nvPr/>
        </p:nvPicPr>
        <p:blipFill>
          <a:blip r:embed="rId4"/>
          <a:stretch/>
        </p:blipFill>
        <p:spPr>
          <a:xfrm>
            <a:off x="965160" y="1197000"/>
            <a:ext cx="88441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B6F2-4529-418E-8261-433DC9B0A63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Прямоугольник 3"/>
          <p:cNvSpPr/>
          <p:nvPr/>
        </p:nvSpPr>
        <p:spPr>
          <a:xfrm>
            <a:off x="1146240" y="136440"/>
            <a:ext cx="86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Доходы местного бюдже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14280" y="1023840"/>
          <a:ext cx="9456840" cy="5732640"/>
        </p:xfrm>
        <a:graphic>
          <a:graphicData uri="http://schemas.openxmlformats.org/drawingml/2006/table">
            <a:tbl>
              <a:tblPr/>
              <a:tblGrid>
                <a:gridCol w="5103720"/>
                <a:gridCol w="1760760"/>
                <a:gridCol w="1282680"/>
                <a:gridCol w="1309680"/>
              </a:tblGrid>
              <a:tr h="368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435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ЛОГОВЫЕ И НЕНАЛОГОВЫЕ ДО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53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9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95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3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6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98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7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7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7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7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4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9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9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лог на имущество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74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3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0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Земельный н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57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57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57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7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92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9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5264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809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76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90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Дотации бюджетам поселений на выравнивание бюджетной обеспечен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75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34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36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90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убвенции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6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5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90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ные межбюджетные трансферты, передаваемые бюджетам посел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928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24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792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211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706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715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  <p:pic>
        <p:nvPicPr>
          <p:cNvPr id="517" name="Picture 2" descr="https://encrypted-tbn0.gstatic.com/images?q=tbn:ANd9GcQqcCh84ssaxXSZ9mJeQTcCirZxRWpmawh5E1324uVvOhZw5AxG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604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B371-2FDC-475B-9392-DC02D1990C6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Прямоугольник 2"/>
          <p:cNvSpPr/>
          <p:nvPr/>
        </p:nvSpPr>
        <p:spPr>
          <a:xfrm>
            <a:off x="649440" y="890640"/>
            <a:ext cx="912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  <a:ea typeface="Arial"/>
              </a:rPr>
              <a:t>РАСХОДНАЯ ЧАСТЬ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  <a:ea typeface="Arial"/>
              </a:rPr>
              <a:t>БЮДЖЕТА КЛЕНОВСКОГО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  <a:ea typeface="Arial"/>
              </a:rPr>
              <a:t>СЕЛЬСКОГО ПОСЕЛЕНИ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B745-D554-475A-A951-4E34FDAAADC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AutoShape 3"/>
          <p:cNvSpPr/>
          <p:nvPr/>
        </p:nvSpPr>
        <p:spPr>
          <a:xfrm>
            <a:off x="1547640" y="1341360"/>
            <a:ext cx="6409080" cy="865440"/>
          </a:xfrm>
          <a:custGeom>
            <a:avLst/>
            <a:gdLst>
              <a:gd name="textAreaLeft" fmla="*/ 1602360 w 6409080"/>
              <a:gd name="textAreaRight" fmla="*/ 4807080 w 6409080"/>
              <a:gd name="textAreaTop" fmla="*/ 0 h 865440"/>
              <a:gd name="textAreaBottom" fmla="*/ 757440 h 8654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юдже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леновского сельск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ел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2" name="Picture 2" descr="https://encrypted-tbn0.gstatic.com/images?q=tbn:ANd9GcQqcCh84ssaxXSZ9mJeQTcCirZxRWpmawh5E1324uVvOhZw5AxG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50840" y="-23760"/>
            <a:ext cx="998640" cy="1365120"/>
          </a:xfrm>
          <a:prstGeom prst="rect">
            <a:avLst/>
          </a:prstGeom>
          <a:ln w="0">
            <a:noFill/>
          </a:ln>
        </p:spPr>
      </p:pic>
      <p:sp>
        <p:nvSpPr>
          <p:cNvPr id="523" name="Прямоугольник 4"/>
          <p:cNvSpPr/>
          <p:nvPr/>
        </p:nvSpPr>
        <p:spPr>
          <a:xfrm>
            <a:off x="1238400" y="0"/>
            <a:ext cx="84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Расходы  бюджета Кленовского сельского  посе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3276720" y="2421000"/>
            <a:ext cx="2663640" cy="574560"/>
          </a:xfrm>
          <a:prstGeom prst="downArrowCallout">
            <a:avLst>
              <a:gd name="adj1" fmla="val 115910"/>
              <a:gd name="adj2" fmla="val 115899"/>
              <a:gd name="adj3" fmla="val 16667"/>
              <a:gd name="adj4" fmla="val 66667"/>
            </a:avLst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ходы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0" y="2979720"/>
            <a:ext cx="3138480" cy="719280"/>
          </a:xfrm>
          <a:prstGeom prst="foldedCorner">
            <a:avLst>
              <a:gd name="adj" fmla="val 28393"/>
            </a:avLst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бщегосударственные вопрос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AutoShape 11"/>
          <p:cNvSpPr/>
          <p:nvPr/>
        </p:nvSpPr>
        <p:spPr>
          <a:xfrm>
            <a:off x="76320" y="3998880"/>
            <a:ext cx="3163680" cy="682560"/>
          </a:xfrm>
          <a:prstGeom prst="foldedCorner">
            <a:avLst>
              <a:gd name="adj" fmla="val 41722"/>
            </a:avLst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циональная оборон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AutoShape 13"/>
          <p:cNvSpPr/>
          <p:nvPr/>
        </p:nvSpPr>
        <p:spPr>
          <a:xfrm>
            <a:off x="0" y="5076720"/>
            <a:ext cx="3022560" cy="806400"/>
          </a:xfrm>
          <a:prstGeom prst="foldedCorner">
            <a:avLst>
              <a:gd name="adj" fmla="val 38990"/>
            </a:avLst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AutoShape 10"/>
          <p:cNvSpPr/>
          <p:nvPr/>
        </p:nvSpPr>
        <p:spPr>
          <a:xfrm>
            <a:off x="3719520" y="5005440"/>
            <a:ext cx="2738520" cy="608040"/>
          </a:xfrm>
          <a:prstGeom prst="foldedCorner">
            <a:avLst>
              <a:gd name="adj" fmla="val 36421"/>
            </a:avLst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AutoShape 10"/>
          <p:cNvSpPr/>
          <p:nvPr/>
        </p:nvSpPr>
        <p:spPr>
          <a:xfrm>
            <a:off x="3516480" y="4116240"/>
            <a:ext cx="2941560" cy="720720"/>
          </a:xfrm>
          <a:prstGeom prst="foldedCorner">
            <a:avLst>
              <a:gd name="adj" fmla="val 23407"/>
            </a:avLst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Жилищно-коммунальное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хозяйств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3524400" y="3089160"/>
            <a:ext cx="3022560" cy="733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Национальная безопасность и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правоохранительная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AutoShape 9"/>
          <p:cNvSpPr/>
          <p:nvPr/>
        </p:nvSpPr>
        <p:spPr>
          <a:xfrm>
            <a:off x="6730920" y="4116240"/>
            <a:ext cx="3022560" cy="720720"/>
          </a:xfrm>
          <a:prstGeom prst="foldedCorner">
            <a:avLst>
              <a:gd name="adj" fmla="val 31041"/>
            </a:avLst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ультура и кинематограф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AutoShape 15"/>
          <p:cNvSpPr/>
          <p:nvPr/>
        </p:nvSpPr>
        <p:spPr>
          <a:xfrm>
            <a:off x="6784920" y="5275440"/>
            <a:ext cx="3022560" cy="674640"/>
          </a:xfrm>
          <a:prstGeom prst="foldedCorner">
            <a:avLst>
              <a:gd name="adj" fmla="val 26615"/>
            </a:avLst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Физическая культура и спор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AutoShape 7"/>
          <p:cNvSpPr/>
          <p:nvPr/>
        </p:nvSpPr>
        <p:spPr>
          <a:xfrm>
            <a:off x="6953400" y="2708280"/>
            <a:ext cx="2685960" cy="811080"/>
          </a:xfrm>
          <a:prstGeom prst="foldedCorner">
            <a:avLst>
              <a:gd name="adj" fmla="val 25833"/>
            </a:avLst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циональная экономи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7"/>
          <p:cNvSpPr/>
          <p:nvPr/>
        </p:nvSpPr>
        <p:spPr>
          <a:xfrm>
            <a:off x="3379680" y="5950080"/>
            <a:ext cx="3210120" cy="7189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редства массовой информаци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85AF-BE59-403E-BF7D-2ABF30331A7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Picture 2" descr="https://encrypted-tbn0.gstatic.com/images?q=tbn:ANd9GcQqcCh84ssaxXSZ9mJeQTcCirZxRWpmawh5E1324uVvOhZw5AxG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33200" y="0"/>
            <a:ext cx="1238040" cy="169236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3"/>
          <p:cNvSpPr/>
          <p:nvPr/>
        </p:nvSpPr>
        <p:spPr>
          <a:xfrm>
            <a:off x="1514520" y="109440"/>
            <a:ext cx="79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Arial"/>
              </a:rPr>
              <a:t>Структура расходов местного бюдж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8" name="Диаграмма 4" descr=""/>
          <p:cNvPicPr/>
          <p:nvPr/>
        </p:nvPicPr>
        <p:blipFill>
          <a:blip r:embed="rId3"/>
          <a:stretch/>
        </p:blipFill>
        <p:spPr>
          <a:xfrm>
            <a:off x="1600200" y="1176480"/>
            <a:ext cx="79628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507600" y="1980720"/>
            <a:ext cx="9169560" cy="487692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t">
            <a:normAutofit fontScale="98000"/>
          </a:bodyPr>
          <a:p>
            <a:pPr marL="1080" indent="354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1080" indent="35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Вашему вниманию предлагается проект бюджета Кленовского сельского поселения  на 2018 год и плановый период 2019 и 2020 годов в форме презентационного материала. </a:t>
            </a:r>
            <a:br>
              <a:rPr sz="1800"/>
            </a:b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        В настоящее время обеспечение открытости и прозрачности бюджетного процесса является одним из ключевых направлений деятельности органов местного самоуправления. Для того, чтобы каждый житель Кленовского сельского поселения мог получить информацию о проекте бюджета Кленовского сельского поселения на 2018 год и плановый период 2019 и 2020 годов, проект бюджета  также размещен на сайте администрации Кленовского сельского поселения.</a:t>
            </a: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       Мы постарались доступно отразить основные параметры проекта бюджета Кленовского сельского поселения на  2018 год и плановый период 2019 и 2020 годов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1080" indent="35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Надеемся, что информация о бюджете, представленная в информативной и компактной форме, позволит вам углубить свои знания о бюджете и создать основы для активного участия в бюджетном процессе поселения.</a:t>
            </a:r>
            <a:r>
              <a:rPr b="0" lang="ru-RU" sz="1600" spc="-1" strike="noStrike">
                <a:solidFill>
                  <a:srgbClr val="0d0d0d"/>
                </a:solidFill>
                <a:latin typeface="Constantia"/>
              </a:rPr>
              <a:t>	</a:t>
            </a:r>
            <a:r>
              <a:rPr b="0" lang="ru-RU" sz="1100" spc="-1" strike="noStrike">
                <a:solidFill>
                  <a:srgbClr val="0d0d0d"/>
                </a:solidFill>
                <a:latin typeface="Constantia"/>
              </a:rPr>
              <a:t>	</a:t>
            </a:r>
            <a:r>
              <a:rPr b="0" lang="ru-RU" sz="1100" spc="-1" strike="noStrike">
                <a:solidFill>
                  <a:srgbClr val="0d0d0d"/>
                </a:solidFill>
                <a:latin typeface="Constantia"/>
              </a:rPr>
              <a:t>	</a:t>
            </a:r>
            <a:r>
              <a:rPr b="0" lang="ru-RU" sz="1100" spc="-1" strike="noStrike">
                <a:solidFill>
                  <a:srgbClr val="0d0d0d"/>
                </a:solidFill>
                <a:latin typeface="Constantia"/>
              </a:rPr>
              <a:t>	</a:t>
            </a:r>
            <a:r>
              <a:rPr b="0" lang="ru-RU" sz="1100" spc="-1" strike="noStrike">
                <a:solidFill>
                  <a:srgbClr val="0d0d0d"/>
                </a:solidFill>
                <a:latin typeface="Constantia"/>
              </a:rPr>
              <a:t>	</a:t>
            </a:r>
            <a:r>
              <a:rPr b="0" lang="ru-RU" sz="1100" spc="-1" strike="noStrike">
                <a:solidFill>
                  <a:srgbClr val="0d0d0d"/>
                </a:solidFill>
                <a:latin typeface="Constantia"/>
              </a:rPr>
              <a:t>	</a:t>
            </a:r>
            <a:r>
              <a:rPr b="0" lang="ru-RU" sz="1100" spc="-1" strike="noStrike">
                <a:solidFill>
                  <a:srgbClr val="0d0d0d"/>
                </a:solidFill>
                <a:latin typeface="Constantia"/>
              </a:rPr>
              <a:t>	</a:t>
            </a:r>
            <a:r>
              <a:rPr b="0" lang="ru-RU" sz="11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1080" indent="354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1080" indent="354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Constantia"/>
              </a:rPr>
              <a:t>Глава Кленовского сельского поселения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1080" indent="354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Constantia"/>
              </a:rPr>
              <a:t>Матвеев А.Л. </a:t>
            </a:r>
            <a:br>
              <a:rPr sz="1500"/>
            </a:b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Номер слайда 4"/>
          <p:cNvSpPr/>
          <p:nvPr/>
        </p:nvSpPr>
        <p:spPr>
          <a:xfrm>
            <a:off x="9110520" y="6181560"/>
            <a:ext cx="66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1F33-8F80-42DD-A029-152477B3DEA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533680" y="511200"/>
            <a:ext cx="573228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d26"/>
                </a:solidFill>
                <a:latin typeface="Bookman Old Style"/>
              </a:rPr>
              <a:t>Уважаемые жите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d26"/>
                </a:solidFill>
                <a:latin typeface="Bookman Old Style"/>
              </a:rPr>
              <a:t>  </a:t>
            </a:r>
            <a:r>
              <a:rPr b="1" lang="ru-RU" sz="3600" spc="-1" strike="noStrike">
                <a:solidFill>
                  <a:srgbClr val="444d26"/>
                </a:solidFill>
                <a:latin typeface="Bookman Old Style"/>
              </a:rPr>
              <a:t>Кленовского сельского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d26"/>
                </a:solidFill>
                <a:latin typeface="Bookman Old Style"/>
              </a:rPr>
              <a:t>поселен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Picture 2" descr="https://encrypted-tbn0.gstatic.com/images?q=tbn:ANd9GcQqcCh84ssaxXSZ9mJeQTcCirZxRWpmawh5E1324uVvOhZw5AxG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411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7591-E07A-4ADE-A758-F6EB929A644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Прямоугольник 3"/>
          <p:cNvSpPr/>
          <p:nvPr/>
        </p:nvSpPr>
        <p:spPr>
          <a:xfrm>
            <a:off x="1433520" y="163440"/>
            <a:ext cx="82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Расходы  местного бюдж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800280" y="1117440"/>
          <a:ext cx="9105840" cy="5550120"/>
        </p:xfrm>
        <a:graphic>
          <a:graphicData uri="http://schemas.openxmlformats.org/drawingml/2006/table">
            <a:tbl>
              <a:tblPr/>
              <a:tblGrid>
                <a:gridCol w="4516200"/>
                <a:gridCol w="1630440"/>
                <a:gridCol w="1525680"/>
                <a:gridCol w="14335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Наименование показат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8 год. тыс р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9 год. тыс р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20 год. тыс р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40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475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61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61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4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6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циональная безопасность и правоохранительн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0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74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22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827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Жилищно-коммунальное хозяй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78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39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805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0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0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ультура и кинемат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25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34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34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3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42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42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Физическая культура и спор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4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4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4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ства массовой информ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211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4319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34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  <p:pic>
        <p:nvPicPr>
          <p:cNvPr id="542" name="Picture 2" descr="https://encrypted-tbn0.gstatic.com/images?q=tbn:ANd9GcQqcCh84ssaxXSZ9mJeQTcCirZxRWpmawh5E1324uVvOhZw5AxGRg"/>
          <p:cNvPicPr/>
          <p:nvPr/>
        </p:nvPicPr>
        <p:blipFill>
          <a:blip r:embed="rId1"/>
          <a:stretch/>
        </p:blipFill>
        <p:spPr>
          <a:xfrm>
            <a:off x="-133200" y="0"/>
            <a:ext cx="12380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93B7-6AE2-4371-B94F-243C111A48C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Прямоугольник 2"/>
          <p:cNvSpPr/>
          <p:nvPr/>
        </p:nvSpPr>
        <p:spPr>
          <a:xfrm>
            <a:off x="1695600" y="171360"/>
            <a:ext cx="802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Перечень муниципальных программ, планируемых     к реализации в 2018 году и плановом периоде        2019 и 2020 годы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71360" y="1542960"/>
          <a:ext cx="9544320" cy="5426280"/>
        </p:xfrm>
        <a:graphic>
          <a:graphicData uri="http://schemas.openxmlformats.org/drawingml/2006/table">
            <a:tbl>
              <a:tblPr/>
              <a:tblGrid>
                <a:gridCol w="3714840"/>
                <a:gridCol w="2603520"/>
                <a:gridCol w="1081080"/>
                <a:gridCol w="1176480"/>
                <a:gridCol w="968400"/>
              </a:tblGrid>
              <a:tr h="85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Наименование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Реквизиты нормативного правового а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8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9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20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Повышение безопасности            дорожного движения в Кленовском сельском поселении на 2017-2019 годы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становление администрации Кленовского сельского  поселения от  07.11.2016г №266 (с изменениями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788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364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Обеспечение безопасности         жизнедеятельности населения Кленовского сельского              поселения на 2017-2019 годы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становление администрации Кленовского сельского  поселения от  07.11.2016г №265 (с изменениями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Благоустройство территории      Кленовского сельского поселения на 2017-2019 годы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становление администрации Кленовского сельского  поселения от  07.11.2016г №268 (с изменеииями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4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3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Поддержка субъектов малого и   среднего предпринимательства в Кленовском сельском           поселении на 2017-2019 годы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становление администрации Кленовского сельского  поселения о т 07.11.2016г №267 (с изменениями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культуры                       Кленовского сельского поселения на 2017-2019 годы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становление администрации Кленовского сельского  поселения  от  07.11.2016г №269 (с изменениями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7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7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физической                    культуры и массового спорта в Кленовском сельском               поселении на 2017-2019 годы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становление администрации Кленовского сельского  поселения  от  03.11.2016г №262 (с изменениями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39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Обеспечение жильем   молодых  семей на территории Кленовского сельского  поселения» на 2018 год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становление администрации Кленовского сельского  поселения  от  20.09.2017г №1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4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Муниципальная программа "Энергосбережение и повышение энергетической эффективности Кленовского сельского            поселения на 2017-2019 годы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становление администрации Кленовского сельского  поселения  от  07.11.2016г №270 (с изменениями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28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869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859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  <p:pic>
        <p:nvPicPr>
          <p:cNvPr id="546" name="Picture 2" descr="https://encrypted-tbn0.gstatic.com/images?q=tbn:ANd9GcQqcCh84ssaxXSZ9mJeQTcCirZxRWpmawh5E1324uVvOhZw5AxGRg"/>
          <p:cNvPicPr/>
          <p:nvPr/>
        </p:nvPicPr>
        <p:blipFill>
          <a:blip r:embed="rId1"/>
          <a:stretch/>
        </p:blipFill>
        <p:spPr>
          <a:xfrm>
            <a:off x="20520" y="-23760"/>
            <a:ext cx="109548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DA80-E5ED-400D-BCD1-8DE3B8923EB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8" name="Picture 2" descr="https://encrypted-tbn0.gstatic.com/images?q=tbn:ANd9GcQqcCh84ssaxXSZ9mJeQTcCirZxRWpmawh5E1324uVvOhZw5AxGRg"/>
          <p:cNvPicPr/>
          <p:nvPr/>
        </p:nvPicPr>
        <p:blipFill>
          <a:blip r:embed="rId1"/>
          <a:stretch/>
        </p:blipFill>
        <p:spPr>
          <a:xfrm>
            <a:off x="0" y="0"/>
            <a:ext cx="998640" cy="1365120"/>
          </a:xfrm>
          <a:prstGeom prst="rect">
            <a:avLst/>
          </a:prstGeom>
          <a:ln w="0">
            <a:noFill/>
          </a:ln>
        </p:spPr>
      </p:pic>
      <p:sp>
        <p:nvSpPr>
          <p:cNvPr id="549" name="TextBox 3"/>
          <p:cNvSpPr/>
          <p:nvPr/>
        </p:nvSpPr>
        <p:spPr>
          <a:xfrm>
            <a:off x="1312920" y="476280"/>
            <a:ext cx="82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68b0"/>
                </a:solidFill>
                <a:latin typeface="Times New Roman"/>
              </a:rPr>
              <a:t>ОБЪЕМ ДОХОДОВ И РАСХОДОВ МЕСТНОГО БЮДЖЕТА В РАСЧЕТЕ НА 1 ЖИТЕ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33200" y="1504800"/>
          <a:ext cx="9772920" cy="5210280"/>
        </p:xfrm>
        <a:graphic>
          <a:graphicData uri="http://schemas.openxmlformats.org/drawingml/2006/table">
            <a:tbl>
              <a:tblPr/>
              <a:tblGrid>
                <a:gridCol w="4972320"/>
                <a:gridCol w="1104840"/>
                <a:gridCol w="1238040"/>
                <a:gridCol w="1181160"/>
                <a:gridCol w="1276560"/>
              </a:tblGrid>
              <a:tr h="638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Наименование показат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Ед. 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5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Общий объем доходов бюджета в расчете на 1 жител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тыс.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Общий объем расходов бюджета в расчете   на 1 ж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тыс.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3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Объем расходов бюджета на общегосударственные вопросы в расчете на 1 ж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тыс.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63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Объем расходов бюджета на национальную  экономику в расчете на 1 ж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тыс.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3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Объем расходов бюджета на жилищно - коммунальное хозяйство в расчете на 1 жител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тыс.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63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Объем расходов бюджета на культуру и             кинематографию в расчете на 1 жител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тыс.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3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Объем расходов бюджета на социальную политику в расчете на 1 жител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тыс.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63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Объем расходов бюджета на физическую культуру и спорт в расчете на 1 жител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тыс.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6824-6443-44D8-BF4D-E648849B0C6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Прямоугольник 2"/>
          <p:cNvSpPr/>
          <p:nvPr/>
        </p:nvSpPr>
        <p:spPr>
          <a:xfrm>
            <a:off x="0" y="-108000"/>
            <a:ext cx="99061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  <a:ea typeface="Arial"/>
              </a:rPr>
              <a:t>Контактная информация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Администрация Кленовского сельского посе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очтовый адрес: 623040, Свердловская область,                                                                             Нижнесергинский район, с. Кленовское,                               ул.Красных Партизан, д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елефон/факс 8(343 98)63-236/8(343 98)63-34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Адрес электронной почты: </a:t>
            </a:r>
            <a:r>
              <a:rPr b="0" lang="en-US" sz="2800" spc="-1" strike="noStrike">
                <a:solidFill>
                  <a:srgbClr val="b58b80"/>
                </a:solidFill>
                <a:latin typeface="Calibri"/>
                <a:ea typeface="Arial"/>
              </a:rPr>
              <a:t>klencp@mail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Адрес официального сайта: </a:t>
            </a:r>
            <a:r>
              <a:rPr b="0" lang="en-US" sz="2800" spc="-1" strike="noStrike" u="sng">
                <a:solidFill>
                  <a:srgbClr val="b58b80"/>
                </a:solidFill>
                <a:uFillTx/>
                <a:latin typeface="Calibri"/>
                <a:ea typeface="Arial"/>
              </a:rPr>
              <a:t>klensp.gossaas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F574-43E7-4611-813A-465877D27BC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609480" y="2789280"/>
            <a:ext cx="86868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Номер слайда 5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C295-3C2C-4881-9483-E73DD93496CF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1395360" y="103320"/>
            <a:ext cx="8169480" cy="104292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8"/>
          <p:cNvSpPr/>
          <p:nvPr/>
        </p:nvSpPr>
        <p:spPr>
          <a:xfrm>
            <a:off x="193680" y="3429000"/>
            <a:ext cx="9363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1411200" y="1028520"/>
            <a:ext cx="498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marL="20520" algn="ctr">
              <a:lnSpc>
                <a:spcPts val="2160"/>
              </a:lnSpc>
              <a:spcBef>
                <a:spcPts val="2100"/>
              </a:spcBef>
              <a:spcAft>
                <a:spcPts val="2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«Бюджет для граждан»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– аналитический документ,            разрабатываемый в   целях предоставления гражданам      актуальной информации о проекте бюджета Кленовского    сельского поселения в формате, доступном для широкого  круга пользователей. В представленной информации          отражены положения проекта  бюджета Кленовского сельского поселения на предстоящие три года:  2018 год и 2019-2020 годы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Line 13"/>
          <p:cNvSpPr/>
          <p:nvPr/>
        </p:nvSpPr>
        <p:spPr>
          <a:xfrm flipH="1">
            <a:off x="2925360" y="494172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19"/>
          <p:cNvSpPr/>
          <p:nvPr/>
        </p:nvSpPr>
        <p:spPr>
          <a:xfrm>
            <a:off x="193680" y="5988960"/>
            <a:ext cx="92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2160"/>
              </a:lnSpc>
              <a:spcBef>
                <a:spcPts val="2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Бюджет для граждан» нацелен на получение обратной связи от  граждан по интересующим их вопроса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Picture 21" descr=""/>
          <p:cNvPicPr/>
          <p:nvPr/>
        </p:nvPicPr>
        <p:blipFill>
          <a:blip r:embed="rId2"/>
          <a:stretch/>
        </p:blipFill>
        <p:spPr>
          <a:xfrm>
            <a:off x="6400800" y="861840"/>
            <a:ext cx="3274920" cy="2843280"/>
          </a:xfrm>
          <a:prstGeom prst="rect">
            <a:avLst/>
          </a:prstGeom>
          <a:ln w="0">
            <a:noFill/>
          </a:ln>
        </p:spPr>
      </p:pic>
      <p:sp>
        <p:nvSpPr>
          <p:cNvPr id="398" name="Line 22"/>
          <p:cNvSpPr/>
          <p:nvPr/>
        </p:nvSpPr>
        <p:spPr>
          <a:xfrm>
            <a:off x="351000" y="765000"/>
            <a:ext cx="9204120" cy="0"/>
          </a:xfrm>
          <a:prstGeom prst="line">
            <a:avLst/>
          </a:prstGeom>
          <a:ln w="4752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Picture 10" descr="Безимени-7"/>
          <p:cNvPicPr/>
          <p:nvPr/>
        </p:nvPicPr>
        <p:blipFill>
          <a:blip r:embed="rId3"/>
          <a:stretch/>
        </p:blipFill>
        <p:spPr>
          <a:xfrm>
            <a:off x="685800" y="3824280"/>
            <a:ext cx="8989920" cy="21463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https://encrypted-tbn0.gstatic.com/images?q=tbn:ANd9GcQqcCh84ssaxXSZ9mJeQTcCirZxRWpmawh5E1324uVvOhZw5AxGR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411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58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86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960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97AD-9D3F-4224-84D6-27B5FC99F6B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Прямоугольник 2"/>
          <p:cNvSpPr/>
          <p:nvPr/>
        </p:nvSpPr>
        <p:spPr>
          <a:xfrm>
            <a:off x="2800440" y="30492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ВВОДНАЯ ЧА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Прямоугольник 3"/>
          <p:cNvSpPr/>
          <p:nvPr/>
        </p:nvSpPr>
        <p:spPr>
          <a:xfrm>
            <a:off x="1555920" y="704880"/>
            <a:ext cx="535932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сельского посел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орм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и расходования денежных средств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ных для финансового обеспечен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 и функций поселения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 сельского поселени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ющие в бюджет поселения денежны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бюджета сельского посел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лачиваемые из бюджета поселения денежные средств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бюджета (превышение расходов  над доходам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ется решение об источниках покрыт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а: использовать имеющиеся остатки, взять в долг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ицит бюджет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евышение доходов над расходами). Принимается решение как использовать: накапливать остатки, погашать долг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Picture 2" descr="http://dlhednzd5e78n.cloudfront.net/wp-content/uploads/2013/04/1040136_82699226_SXC-copy.jpg"/>
          <p:cNvPicPr/>
          <p:nvPr/>
        </p:nvPicPr>
        <p:blipFill>
          <a:blip r:embed="rId1"/>
          <a:stretch/>
        </p:blipFill>
        <p:spPr>
          <a:xfrm>
            <a:off x="6915240" y="4941720"/>
            <a:ext cx="2879640" cy="1366920"/>
          </a:xfrm>
          <a:prstGeom prst="rect">
            <a:avLst/>
          </a:prstGeom>
          <a:ln w="0">
            <a:noFill/>
          </a:ln>
        </p:spPr>
      </p:pic>
      <p:pic>
        <p:nvPicPr>
          <p:cNvPr id="405" name="Овал 6" descr=""/>
          <p:cNvPicPr/>
          <p:nvPr/>
        </p:nvPicPr>
        <p:blipFill>
          <a:blip r:embed="rId2"/>
          <a:stretch/>
        </p:blipFill>
        <p:spPr>
          <a:xfrm>
            <a:off x="8975880" y="5589720"/>
            <a:ext cx="865080" cy="647640"/>
          </a:xfrm>
          <a:prstGeom prst="rect">
            <a:avLst/>
          </a:prstGeom>
          <a:ln w="0">
            <a:noFill/>
          </a:ln>
        </p:spPr>
      </p:pic>
      <p:pic>
        <p:nvPicPr>
          <p:cNvPr id="406" name="Овал 5" descr=""/>
          <p:cNvPicPr/>
          <p:nvPr/>
        </p:nvPicPr>
        <p:blipFill>
          <a:blip r:embed="rId3"/>
          <a:stretch/>
        </p:blipFill>
        <p:spPr>
          <a:xfrm>
            <a:off x="7059600" y="5553000"/>
            <a:ext cx="649440" cy="57636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8"/>
          <p:cNvSpPr/>
          <p:nvPr/>
        </p:nvSpPr>
        <p:spPr>
          <a:xfrm>
            <a:off x="380880" y="502452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балансированность бюджета по доходам и расходам –    основополагающее требование, предъявляемое                  к органам, составляющим и утверждающим бюдж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8" name="Picture 2" descr="https://encrypted-tbn0.gstatic.com/images?q=tbn:ANd9GcQqcCh84ssaxXSZ9mJeQTcCirZxRWpmawh5E1324uVvOhZw5AxGR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0" y="0"/>
            <a:ext cx="1411200" cy="1928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ttp://www.mv.org.ua/imn/2012/b13944.jpg"/>
          <p:cNvPicPr/>
          <p:nvPr/>
        </p:nvPicPr>
        <p:blipFill>
          <a:blip r:embed="rId6"/>
          <a:stretch/>
        </p:blipFill>
        <p:spPr>
          <a:xfrm>
            <a:off x="6915240" y="900000"/>
            <a:ext cx="273672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16D1-417A-49DD-8D82-79B4D7E1B73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Picture 2" descr="https://encrypted-tbn0.gstatic.com/images?q=tbn:ANd9GcQqcCh84ssaxXSZ9mJeQTcCirZxRWpmawh5E1324uVvOhZw5AxG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411200" cy="192888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5"/>
          <p:cNvSpPr/>
          <p:nvPr/>
        </p:nvSpPr>
        <p:spPr>
          <a:xfrm>
            <a:off x="1514520" y="0"/>
            <a:ext cx="82170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Межбюджетные отношения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взаимоотношения между публично-правовыми образованиями по    вопросам регулирования бюджетных правоотношений, организации и осуществления бюджетного процесс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Бюджетные ассигнования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едельные объемы денежных средств, предусмотренных в                соответствующем финансовом году для исполнения бюджетных обязательств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Публичные обязательства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обусловленные законом, иным нормативным правовым актом              расходные обязательства публично-правового образования перед физическим или юридическим лицом,     иным публично-правовым образованием, подлежащие исполнению в установленном соответствующим        законом, иным нормативным правовым актом размере или имеющие установленный указанным законом,      актом порядок его определения (расчета, индексации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Прямоугольник 6"/>
          <p:cNvSpPr/>
          <p:nvPr/>
        </p:nvSpPr>
        <p:spPr>
          <a:xfrm>
            <a:off x="122400" y="2398680"/>
            <a:ext cx="91850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год, в котором осуществляется исполнение бюджета, составление и рассмотрение     проекта бюджета на очередной финансовый год (очередной финансовый год и плановый период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Очередной финансовый год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год, следующий за текущим финансовым годом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Плановый период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два финансовых года, следующие за очередным финансовым годом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Отчетный финансовый год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год, предшествующий текущему  финансовому году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Прямоугольник 7"/>
          <p:cNvSpPr/>
          <p:nvPr/>
        </p:nvSpPr>
        <p:spPr>
          <a:xfrm>
            <a:off x="368280" y="3835440"/>
            <a:ext cx="8939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Главный распорядитель бюджетных средств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орган государственной власти, орган управления         государственным внебюджетным фондом, орган местного самоуправления, орган местной администрации, а также наиболее значимое учреждение образования, культуры, здравоохранения, указанное в ведомственной структуре    расходов бюджета, имеющие право распределять бюджетные ассигнования и лимиты бюджетных обязательств       между подведомственными распорядителями и (или) получателями бюджетных средств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Главный администратор доходов бюджета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определенный законом (решением) о бюджете орган       государственной власти (государственный орган), орган местного самоуправления, орган местной администрации,   орган управления государственным внебюджетным фондом, Центральный банк Российской Федерации, иная           организация, имеющие в своем ведении администраторов доходов бюджета и (или) являющиеся администраторами доходов бюджета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Публичные слушания –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оводимые по инициативе населения, представительного органа муниципального  образования или главы муниципального образования мероприятия для обсуждения проектов муниципальных          правовых актов по вопросам местного значения с участием жителей муниципального образова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9CE8-4E54-4DD0-A133-7C3231BE8FA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" name="Picture 2" descr="https://encrypted-tbn0.gstatic.com/images?q=tbn:ANd9GcQqcCh84ssaxXSZ9mJeQTcCirZxRWpmawh5E1324uVvOhZw5AxG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0" y="0"/>
            <a:ext cx="1411200" cy="192888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3" descr=""/>
          <p:cNvPicPr/>
          <p:nvPr/>
        </p:nvPicPr>
        <p:blipFill>
          <a:blip r:embed="rId3"/>
          <a:stretch/>
        </p:blipFill>
        <p:spPr>
          <a:xfrm>
            <a:off x="1871640" y="109440"/>
            <a:ext cx="7461360" cy="1474920"/>
          </a:xfrm>
          <a:prstGeom prst="rect">
            <a:avLst/>
          </a:prstGeom>
          <a:ln w="0">
            <a:noFill/>
          </a:ln>
        </p:spPr>
      </p:pic>
      <p:sp>
        <p:nvSpPr>
          <p:cNvPr id="418" name="Овал 4"/>
          <p:cNvSpPr/>
          <p:nvPr/>
        </p:nvSpPr>
        <p:spPr>
          <a:xfrm>
            <a:off x="3359160" y="3162240"/>
            <a:ext cx="3517920" cy="2181240"/>
          </a:xfrm>
          <a:prstGeom prst="ellipse">
            <a:avLst/>
          </a:prstGeom>
          <a:solidFill>
            <a:srgbClr val="00206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БЮДЖЕТНЫЙ ПРОЦЕ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Овал 6"/>
          <p:cNvSpPr/>
          <p:nvPr/>
        </p:nvSpPr>
        <p:spPr>
          <a:xfrm>
            <a:off x="6672240" y="2362320"/>
            <a:ext cx="2716200" cy="1600200"/>
          </a:xfrm>
          <a:prstGeom prst="ellipse">
            <a:avLst/>
          </a:prstGeom>
          <a:solidFill>
            <a:srgbClr val="ace0ea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c65"/>
                </a:solidFill>
                <a:latin typeface="Trebuchet MS"/>
              </a:rPr>
              <a:t>Рассмотрение проекта бюдж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Овал 8"/>
          <p:cNvSpPr/>
          <p:nvPr/>
        </p:nvSpPr>
        <p:spPr>
          <a:xfrm>
            <a:off x="6877080" y="4076640"/>
            <a:ext cx="2838600" cy="1486080"/>
          </a:xfrm>
          <a:prstGeom prst="ellipse">
            <a:avLst/>
          </a:prstGeom>
          <a:solidFill>
            <a:srgbClr val="ace0ea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c65"/>
                </a:solidFill>
                <a:latin typeface="Trebuchet MS"/>
              </a:rPr>
              <a:t>Утверждение бюдж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Овал 9"/>
          <p:cNvSpPr/>
          <p:nvPr/>
        </p:nvSpPr>
        <p:spPr>
          <a:xfrm>
            <a:off x="3905280" y="5343480"/>
            <a:ext cx="3120840" cy="1343160"/>
          </a:xfrm>
          <a:prstGeom prst="ellipse">
            <a:avLst/>
          </a:prstGeom>
          <a:solidFill>
            <a:srgbClr val="ace0ea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c65"/>
                </a:solidFill>
                <a:latin typeface="Trebuchet MS"/>
              </a:rPr>
              <a:t>Исполнение бюдж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Овал 10"/>
          <p:cNvSpPr/>
          <p:nvPr/>
        </p:nvSpPr>
        <p:spPr>
          <a:xfrm>
            <a:off x="514440" y="4581360"/>
            <a:ext cx="3047760" cy="1524240"/>
          </a:xfrm>
          <a:prstGeom prst="ellipse">
            <a:avLst/>
          </a:prstGeom>
          <a:solidFill>
            <a:srgbClr val="ace0ea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c65"/>
                </a:solidFill>
                <a:latin typeface="Trebuchet MS"/>
              </a:rPr>
              <a:t>Формирование отчета об исполнении бюджета предыдущего г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Овал 11"/>
          <p:cNvSpPr/>
          <p:nvPr/>
        </p:nvSpPr>
        <p:spPr>
          <a:xfrm>
            <a:off x="798480" y="2755800"/>
            <a:ext cx="2816280" cy="1422360"/>
          </a:xfrm>
          <a:prstGeom prst="ellipse">
            <a:avLst/>
          </a:prstGeom>
          <a:solidFill>
            <a:srgbClr val="ace0ea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c65"/>
                </a:solidFill>
                <a:latin typeface="Trebuchet MS"/>
              </a:rPr>
              <a:t>Утверждение отчета об исполнении бюджета предыдущего г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Овал 12"/>
          <p:cNvSpPr/>
          <p:nvPr/>
        </p:nvSpPr>
        <p:spPr>
          <a:xfrm>
            <a:off x="3562200" y="1771560"/>
            <a:ext cx="2762280" cy="1390680"/>
          </a:xfrm>
          <a:prstGeom prst="ellipse">
            <a:avLst/>
          </a:prstGeom>
          <a:solidFill>
            <a:srgbClr val="ace0ea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c65"/>
                </a:solidFill>
                <a:latin typeface="Trebuchet MS"/>
              </a:rPr>
              <a:t>Составление проекта бюдж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Стрелка вправо 13"/>
          <p:cNvSpPr/>
          <p:nvPr/>
        </p:nvSpPr>
        <p:spPr>
          <a:xfrm rot="20763000">
            <a:off x="2438280" y="2085480"/>
            <a:ext cx="876600" cy="4762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Стрелка вправо 14"/>
          <p:cNvSpPr/>
          <p:nvPr/>
        </p:nvSpPr>
        <p:spPr>
          <a:xfrm rot="439200">
            <a:off x="6337440" y="1762200"/>
            <a:ext cx="995400" cy="5000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Выгнутая вправо стрелка 15"/>
          <p:cNvSpPr/>
          <p:nvPr/>
        </p:nvSpPr>
        <p:spPr>
          <a:xfrm>
            <a:off x="9388440" y="3143160"/>
            <a:ext cx="327240" cy="1152720"/>
          </a:xfrm>
          <a:custGeom>
            <a:avLst/>
            <a:gdLst>
              <a:gd name="textAreaLeft" fmla="*/ 43560 w 327240"/>
              <a:gd name="textAreaRight" fmla="*/ 283680 w 327240"/>
              <a:gd name="textAreaTop" fmla="*/ 257400 h 1152720"/>
              <a:gd name="textAreaBottom" fmla="*/ 8542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51" stAng="-5400000" swAng="5400000"/>
                <a:lnTo>
                  <a:pt x="21600" y="11183"/>
                </a:lnTo>
                <a:arcTo wR="21600" hR="9651" stAng="0" swAng="3598641"/>
                <a:lnTo>
                  <a:pt x="5400" y="21294"/>
                </a:lnTo>
                <a:lnTo>
                  <a:pt x="0" y="20068"/>
                </a:lnTo>
                <a:lnTo>
                  <a:pt x="5400" y="18230"/>
                </a:lnTo>
                <a:lnTo>
                  <a:pt x="5400" y="18996"/>
                </a:lnTo>
                <a:arcTo wR="21600" hR="9651" stAng="3598641" swAng="-3476394"/>
                <a:lnTo>
                  <a:pt x="21532" y="10417"/>
                </a:lnTo>
                <a:arcTo wR="21600" hR="9651" stAng="-122247" swAng="-5277753"/>
                <a:close/>
              </a:path>
              <a:path fill="darkenLess" w="21600" h="21600">
                <a:moveTo>
                  <a:pt x="0" y="0"/>
                </a:moveTo>
                <a:arcTo wR="21600" hR="9651" stAng="-5400000" swAng="5400000"/>
                <a:lnTo>
                  <a:pt x="21600" y="11183"/>
                </a:lnTo>
                <a:arcTo wR="21600" hR="9651" stAng="0" swAng="-122247"/>
                <a:lnTo>
                  <a:pt x="21532" y="10417"/>
                </a:lnTo>
                <a:arcTo wR="21600" hR="9651" stAng="-122247" swAng="-5277753"/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Стрелка влево 16"/>
          <p:cNvSpPr/>
          <p:nvPr/>
        </p:nvSpPr>
        <p:spPr>
          <a:xfrm rot="20521200">
            <a:off x="7359480" y="5810040"/>
            <a:ext cx="936720" cy="533160"/>
          </a:xfrm>
          <a:prstGeom prst="leftArrow">
            <a:avLst>
              <a:gd name="adj1" fmla="val 50000"/>
              <a:gd name="adj2" fmla="val 50032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Стрелка влево 17"/>
          <p:cNvSpPr/>
          <p:nvPr/>
        </p:nvSpPr>
        <p:spPr>
          <a:xfrm rot="1138200">
            <a:off x="2742840" y="6014880"/>
            <a:ext cx="819000" cy="46044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Выгнутая вправо стрелка 19"/>
          <p:cNvSpPr/>
          <p:nvPr/>
        </p:nvSpPr>
        <p:spPr>
          <a:xfrm rot="11089200">
            <a:off x="181800" y="3743280"/>
            <a:ext cx="609480" cy="1052640"/>
          </a:xfrm>
          <a:custGeom>
            <a:avLst/>
            <a:gdLst>
              <a:gd name="textAreaLeft" fmla="*/ 81360 w 609480"/>
              <a:gd name="textAreaRight" fmla="*/ 528120 w 609480"/>
              <a:gd name="textAreaTop" fmla="*/ 205920 h 1052640"/>
              <a:gd name="textAreaBottom" fmla="*/ 77040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55" stAng="-5400000" swAng="5400000"/>
                <a:lnTo>
                  <a:pt x="21600" y="11582"/>
                </a:lnTo>
                <a:arcTo wR="21600" hR="8455" stAng="0" swAng="3395325"/>
                <a:lnTo>
                  <a:pt x="5400" y="21332"/>
                </a:lnTo>
                <a:lnTo>
                  <a:pt x="0" y="18473"/>
                </a:lnTo>
                <a:lnTo>
                  <a:pt x="5400" y="15077"/>
                </a:lnTo>
                <a:lnTo>
                  <a:pt x="5400" y="16641"/>
                </a:lnTo>
                <a:arcTo wR="21600" hR="8455" stAng="3395325" swAng="-3142576"/>
                <a:lnTo>
                  <a:pt x="21227" y="10018"/>
                </a:lnTo>
                <a:arcTo wR="21600" hR="8455" stAng="-252750" swAng="-5147250"/>
                <a:close/>
              </a:path>
              <a:path fill="darkenLess" w="21600" h="21600">
                <a:moveTo>
                  <a:pt x="0" y="0"/>
                </a:moveTo>
                <a:arcTo wR="21600" hR="8455" stAng="-5400000" swAng="5400000"/>
                <a:lnTo>
                  <a:pt x="21600" y="11582"/>
                </a:lnTo>
                <a:arcTo wR="21600" hR="8455" stAng="0" swAng="-252750"/>
                <a:lnTo>
                  <a:pt x="21227" y="10018"/>
                </a:lnTo>
                <a:arcTo wR="21600" hR="8455" stAng="-252750" swAng="-5147250"/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Номер слайда 5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1279-99E3-4CC8-AAF3-9C185AD0F18C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706840" y="-6480"/>
            <a:ext cx="687528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5"/>
          <p:cNvSpPr/>
          <p:nvPr/>
        </p:nvSpPr>
        <p:spPr>
          <a:xfrm>
            <a:off x="662040" y="907920"/>
            <a:ext cx="2957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Line 6"/>
          <p:cNvSpPr/>
          <p:nvPr/>
        </p:nvSpPr>
        <p:spPr>
          <a:xfrm flipH="1">
            <a:off x="3439800" y="907920"/>
            <a:ext cx="770040" cy="317520"/>
          </a:xfrm>
          <a:prstGeom prst="line">
            <a:avLst/>
          </a:prstGeom>
          <a:ln w="50760">
            <a:solidFill>
              <a:srgbClr val="5eccf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Line 7"/>
          <p:cNvSpPr/>
          <p:nvPr/>
        </p:nvSpPr>
        <p:spPr>
          <a:xfrm>
            <a:off x="5540400" y="868320"/>
            <a:ext cx="0" cy="936720"/>
          </a:xfrm>
          <a:prstGeom prst="line">
            <a:avLst/>
          </a:prstGeom>
          <a:ln w="50760">
            <a:solidFill>
              <a:srgbClr val="5eccf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8"/>
          <p:cNvSpPr/>
          <p:nvPr/>
        </p:nvSpPr>
        <p:spPr>
          <a:xfrm>
            <a:off x="6640560" y="817560"/>
            <a:ext cx="784080" cy="368280"/>
          </a:xfrm>
          <a:prstGeom prst="line">
            <a:avLst/>
          </a:prstGeom>
          <a:ln w="50760">
            <a:solidFill>
              <a:srgbClr val="5eccf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9"/>
          <p:cNvSpPr/>
          <p:nvPr/>
        </p:nvSpPr>
        <p:spPr>
          <a:xfrm>
            <a:off x="3860640" y="1792440"/>
            <a:ext cx="31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7520040" y="836640"/>
            <a:ext cx="2192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Times New Roman"/>
              </a:rPr>
              <a:t>Бюджет организац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9" name="Picture 11" descr=""/>
          <p:cNvPicPr/>
          <p:nvPr/>
        </p:nvPicPr>
        <p:blipFill>
          <a:blip r:embed="rId2"/>
          <a:stretch/>
        </p:blipFill>
        <p:spPr>
          <a:xfrm>
            <a:off x="7520040" y="1265400"/>
            <a:ext cx="2192400" cy="2232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2" descr=""/>
          <p:cNvPicPr/>
          <p:nvPr/>
        </p:nvPicPr>
        <p:blipFill>
          <a:blip r:embed="rId3"/>
          <a:stretch/>
        </p:blipFill>
        <p:spPr>
          <a:xfrm>
            <a:off x="873000" y="3900600"/>
            <a:ext cx="2567160" cy="13683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3" descr=""/>
          <p:cNvPicPr/>
          <p:nvPr/>
        </p:nvPicPr>
        <p:blipFill>
          <a:blip r:embed="rId4"/>
          <a:stretch/>
        </p:blipFill>
        <p:spPr>
          <a:xfrm>
            <a:off x="4210200" y="3906720"/>
            <a:ext cx="2770200" cy="13986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5" descr=""/>
          <p:cNvPicPr/>
          <p:nvPr/>
        </p:nvPicPr>
        <p:blipFill>
          <a:blip r:embed="rId5"/>
          <a:stretch/>
        </p:blipFill>
        <p:spPr>
          <a:xfrm>
            <a:off x="7427880" y="3886200"/>
            <a:ext cx="2344680" cy="1382760"/>
          </a:xfrm>
          <a:prstGeom prst="rect">
            <a:avLst/>
          </a:prstGeom>
          <a:ln w="0">
            <a:noFill/>
          </a:ln>
        </p:spPr>
      </p:pic>
      <p:sp>
        <p:nvSpPr>
          <p:cNvPr id="443" name="Line 16"/>
          <p:cNvSpPr/>
          <p:nvPr/>
        </p:nvSpPr>
        <p:spPr>
          <a:xfrm>
            <a:off x="6437160" y="2817720"/>
            <a:ext cx="781200" cy="719280"/>
          </a:xfrm>
          <a:prstGeom prst="line">
            <a:avLst/>
          </a:prstGeom>
          <a:ln w="38160">
            <a:solidFill>
              <a:srgbClr val="5eccf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17"/>
          <p:cNvSpPr/>
          <p:nvPr/>
        </p:nvSpPr>
        <p:spPr>
          <a:xfrm>
            <a:off x="5446800" y="2744640"/>
            <a:ext cx="0" cy="863640"/>
          </a:xfrm>
          <a:prstGeom prst="line">
            <a:avLst/>
          </a:prstGeom>
          <a:ln w="38160">
            <a:solidFill>
              <a:srgbClr val="5eccf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18"/>
          <p:cNvSpPr/>
          <p:nvPr/>
        </p:nvSpPr>
        <p:spPr>
          <a:xfrm flipH="1">
            <a:off x="3538440" y="2817720"/>
            <a:ext cx="781200" cy="792360"/>
          </a:xfrm>
          <a:prstGeom prst="line">
            <a:avLst/>
          </a:prstGeom>
          <a:ln w="38160">
            <a:solidFill>
              <a:srgbClr val="5eccf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19"/>
          <p:cNvSpPr/>
          <p:nvPr/>
        </p:nvSpPr>
        <p:spPr>
          <a:xfrm>
            <a:off x="193680" y="530064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73c65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20"/>
          <p:cNvSpPr/>
          <p:nvPr/>
        </p:nvSpPr>
        <p:spPr>
          <a:xfrm>
            <a:off x="3825720" y="5347080"/>
            <a:ext cx="315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73c65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21"/>
          <p:cNvSpPr/>
          <p:nvPr/>
        </p:nvSpPr>
        <p:spPr>
          <a:xfrm>
            <a:off x="7218360" y="5435640"/>
            <a:ext cx="2554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73c65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Line 22"/>
          <p:cNvSpPr/>
          <p:nvPr/>
        </p:nvSpPr>
        <p:spPr>
          <a:xfrm>
            <a:off x="351000" y="692280"/>
            <a:ext cx="9204120" cy="0"/>
          </a:xfrm>
          <a:prstGeom prst="line">
            <a:avLst/>
          </a:prstGeom>
          <a:ln w="4752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Line 23"/>
          <p:cNvSpPr/>
          <p:nvPr/>
        </p:nvSpPr>
        <p:spPr>
          <a:xfrm>
            <a:off x="4210200" y="2550960"/>
            <a:ext cx="2808000" cy="0"/>
          </a:xfrm>
          <a:prstGeom prst="line">
            <a:avLst/>
          </a:prstGeom>
          <a:ln w="4428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6"/>
          <a:stretch/>
        </p:blipFill>
        <p:spPr>
          <a:xfrm>
            <a:off x="1414440" y="1225440"/>
            <a:ext cx="2205000" cy="22305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https://encrypted-tbn0.gstatic.com/images?q=tbn:ANd9GcQqcCh84ssaxXSZ9mJeQTcCirZxRWpmawh5E1324uVvOhZw5AxGR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360" y="-55440"/>
            <a:ext cx="11653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Номер слайда 5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A297-107B-4437-A376-F73CBCE1304E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2305080" y="0"/>
            <a:ext cx="7424640" cy="12319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8" descr=""/>
          <p:cNvPicPr/>
          <p:nvPr/>
        </p:nvPicPr>
        <p:blipFill>
          <a:blip r:embed="rId2"/>
          <a:stretch/>
        </p:blipFill>
        <p:spPr>
          <a:xfrm>
            <a:off x="351000" y="4768920"/>
            <a:ext cx="1950840" cy="1774800"/>
          </a:xfrm>
          <a:prstGeom prst="rect">
            <a:avLst/>
          </a:prstGeom>
          <a:ln w="0">
            <a:noFill/>
          </a:ln>
        </p:spPr>
      </p:pic>
      <p:sp>
        <p:nvSpPr>
          <p:cNvPr id="456" name="Line 10"/>
          <p:cNvSpPr/>
          <p:nvPr/>
        </p:nvSpPr>
        <p:spPr>
          <a:xfrm>
            <a:off x="351000" y="765000"/>
            <a:ext cx="9204120" cy="0"/>
          </a:xfrm>
          <a:prstGeom prst="line">
            <a:avLst/>
          </a:prstGeom>
          <a:ln w="4752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351000" y="3850200"/>
            <a:ext cx="9127800" cy="825480"/>
          </a:xfrm>
          <a:prstGeom prst="rect">
            <a:avLst/>
          </a:prstGeom>
          <a:solidFill>
            <a:srgbClr val="4e67c8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ccf3"/>
                </a:solidFill>
                <a:latin typeface="Times New Roman"/>
              </a:rPr>
              <a:t>Составление проекта бюджета Кленовского сельского посе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13"/>
          <p:cNvSpPr/>
          <p:nvPr/>
        </p:nvSpPr>
        <p:spPr>
          <a:xfrm>
            <a:off x="1325520" y="1197000"/>
            <a:ext cx="1868400" cy="2519280"/>
          </a:xfrm>
          <a:prstGeom prst="downArrowCallout">
            <a:avLst>
              <a:gd name="adj1" fmla="val 25002"/>
              <a:gd name="adj2" fmla="val 25000"/>
              <a:gd name="adj3" fmla="val 22398"/>
              <a:gd name="adj4" fmla="val 66667"/>
            </a:avLst>
          </a:prstGeom>
          <a:solidFill>
            <a:srgbClr val="0070c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eccf3"/>
                </a:solidFill>
                <a:latin typeface="Times New Roman"/>
              </a:rPr>
              <a:t>Бюджетное послание Президента Российской Федер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AutoShape 14"/>
          <p:cNvSpPr/>
          <p:nvPr/>
        </p:nvSpPr>
        <p:spPr>
          <a:xfrm>
            <a:off x="3398760" y="1197000"/>
            <a:ext cx="1897200" cy="2519280"/>
          </a:xfrm>
          <a:prstGeom prst="downArrowCallout">
            <a:avLst>
              <a:gd name="adj1" fmla="val 25002"/>
              <a:gd name="adj2" fmla="val 25000"/>
              <a:gd name="adj3" fmla="val 22433"/>
              <a:gd name="adj4" fmla="val 66667"/>
            </a:avLst>
          </a:prstGeom>
          <a:solidFill>
            <a:srgbClr val="0070c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eccf3"/>
                </a:solidFill>
                <a:latin typeface="Times New Roman"/>
              </a:rPr>
              <a:t>Прогноз социально-экономического развития Кленовского сельского посел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AutoShape 15"/>
          <p:cNvSpPr/>
          <p:nvPr/>
        </p:nvSpPr>
        <p:spPr>
          <a:xfrm>
            <a:off x="7883640" y="1251000"/>
            <a:ext cx="1871640" cy="2519280"/>
          </a:xfrm>
          <a:prstGeom prst="downArrowCallout">
            <a:avLst>
              <a:gd name="adj1" fmla="val 25002"/>
              <a:gd name="adj2" fmla="val 25000"/>
              <a:gd name="adj3" fmla="val 22434"/>
              <a:gd name="adj4" fmla="val 66667"/>
            </a:avLst>
          </a:prstGeom>
          <a:solidFill>
            <a:srgbClr val="0070c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eccf3"/>
                </a:solidFill>
                <a:latin typeface="Times New Roman"/>
              </a:rPr>
              <a:t>Муниципальные программ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AutoShape 16"/>
          <p:cNvSpPr/>
          <p:nvPr/>
        </p:nvSpPr>
        <p:spPr>
          <a:xfrm>
            <a:off x="5664240" y="1197000"/>
            <a:ext cx="1923840" cy="2519280"/>
          </a:xfrm>
          <a:prstGeom prst="downArrowCallout">
            <a:avLst>
              <a:gd name="adj1" fmla="val 25002"/>
              <a:gd name="adj2" fmla="val 25000"/>
              <a:gd name="adj3" fmla="val 30464"/>
              <a:gd name="adj4" fmla="val 66667"/>
            </a:avLst>
          </a:prstGeom>
          <a:solidFill>
            <a:srgbClr val="0070c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eccf3"/>
                </a:solidFill>
                <a:latin typeface="Times New Roman"/>
              </a:rPr>
              <a:t>Основные направления бюджетной и налоговой полити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2" name="Picture 17" descr=""/>
          <p:cNvPicPr/>
          <p:nvPr/>
        </p:nvPicPr>
        <p:blipFill>
          <a:blip r:embed="rId3"/>
          <a:stretch/>
        </p:blipFill>
        <p:spPr>
          <a:xfrm>
            <a:off x="2679840" y="4768920"/>
            <a:ext cx="2030400" cy="17478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9" descr=""/>
          <p:cNvPicPr/>
          <p:nvPr/>
        </p:nvPicPr>
        <p:blipFill>
          <a:blip r:embed="rId4"/>
          <a:stretch/>
        </p:blipFill>
        <p:spPr>
          <a:xfrm>
            <a:off x="5037120" y="4788000"/>
            <a:ext cx="2063880" cy="17287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0" descr=""/>
          <p:cNvPicPr/>
          <p:nvPr/>
        </p:nvPicPr>
        <p:blipFill>
          <a:blip r:embed="rId5"/>
          <a:stretch/>
        </p:blipFill>
        <p:spPr>
          <a:xfrm>
            <a:off x="7450200" y="4788000"/>
            <a:ext cx="2028600" cy="1728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https://encrypted-tbn0.gstatic.com/images?q=tbn:ANd9GcQqcCh84ssaxXSZ9mJeQTcCirZxRWpmawh5E1324uVvOhZw5AxG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6840" y="-55440"/>
            <a:ext cx="11635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1"/>
          <p:cNvSpPr/>
          <p:nvPr/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42C4-AAF1-408E-B28E-FB1BD6C937A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7" name="Picture 2" descr="https://encrypted-tbn0.gstatic.com/images?q=tbn:ANd9GcQqcCh84ssaxXSZ9mJeQTcCirZxRWpmawh5E1324uVvOhZw5AxG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6840" y="-55440"/>
            <a:ext cx="1163520" cy="1590480"/>
          </a:xfrm>
          <a:prstGeom prst="rect">
            <a:avLst/>
          </a:prstGeom>
          <a:ln w="0">
            <a:noFill/>
          </a:ln>
        </p:spPr>
      </p:pic>
      <p:sp>
        <p:nvSpPr>
          <p:cNvPr id="468" name="Прямоугольник 3"/>
          <p:cNvSpPr/>
          <p:nvPr/>
        </p:nvSpPr>
        <p:spPr>
          <a:xfrm>
            <a:off x="1801800" y="163440"/>
            <a:ext cx="77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Black"/>
                <a:ea typeface="Arial"/>
              </a:rPr>
              <a:t>ОСНОВНЫЕ НАПРАВЛЕНИЯ БЮДЖЕТНОЙ И  НАЛОГОВОЙ           ПОЛИТИКИ НА 2018 ГОД  И ПЛАНОВЫЙ ПЕРИОД                         2019 И 2020 ГОД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Прямоугольник 2"/>
          <p:cNvSpPr/>
          <p:nvPr/>
        </p:nvSpPr>
        <p:spPr>
          <a:xfrm>
            <a:off x="368280" y="995400"/>
            <a:ext cx="9537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бюджетной и налоговой политики на 2018 год и плановый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период 2019 и 2020 годов сформированы в соответствии с нормами Бюджетного кодекса Российской  Федерации, решением Думы Кленовского сельского поселения от 31.10.2008 г №22 "О Положении о бюджетном процессе в Кленовском сельского поселении«, содержат основные цели, задачи и направления бюджетной и налоговой политики,                     используемые при формировании проекта бюджета Кленовского сельского поселения на 2018 год и плановый период 2019 и 2020 годов. Основной целью бюджетной и налоговой политики остается достижение приоритетных целей и задач социально-экономического развития территории, выполнение показателей майских Указов Президента Российской Федерации, повышение уровня и качества жизни населения.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стижения поставленных целей при формировании и реализации бюджетной и налоговой политики основными задачами органов местного самоуправления являются: принятие мер, направленных на увеличение поступлений налоговых и    неналоговых доходов местных бюджетов; реализация мероприятий, направленных на выполнение Майских Указов Президента Российской Федерации; обеспечение расходных обязательств источниками финансирования; рост эффективности и четкой  расстановки приоритетов бюджетных расходов, основанных на практическом внедрении новых принципов работы муниципальных учреждений, гарантирующих повышение качества и эффективности оказываемых ими услуг; принятие     мер, направленных на сокращение уровня  долговой нагрузки местных бюджетов; реализация принципа формирования бюджетов на основе муниципальных программ повышение эффективности и результативности муниципальных расход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user8243</cp:lastModifiedBy>
  <cp:lastPrinted>2018-03-14T08:43:16Z</cp:lastPrinted>
  <dcterms:modified xsi:type="dcterms:W3CDTF">2018-03-14T08:52:37Z</dcterms:modified>
  <cp:revision>599</cp:revision>
  <dc:subject/>
  <dc:title>Бюджет для граждан на 2014 год</dc:title>
</cp:coreProperties>
</file>